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DBE4E-2BCC-4362-B0B5-C63580A45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CD4D8-923C-491C-824F-19894FA5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6C4B3-4AA5-4274-89F6-13B9B987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B75CE-CB9D-4B7A-86CC-DB16DE481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CE61-2CA1-4210-9FCA-152098FB0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07CB-A84A-4889-94F7-19FAF220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9E61-94E6-4831-842E-DF2E1760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D067-66D5-4BBC-91C5-37DB6509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D832-CC41-475F-A227-0EFE68BF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119E-5C6B-4C6F-8687-5F6E4F23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61EE-0A59-4B6A-8767-2264D940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4D965-48CC-44F1-9060-DEF5139A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C78D-96B1-4E1F-8C0F-2CA709EF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3E42-B16F-485C-8C2C-B45FF239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823E-5221-4C14-8EB9-8F4F7462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07CD-A983-4D95-9497-6BC42B539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5E24-9094-455D-A4AB-2AFE4EAA4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D2D44-CFBB-433B-8A31-1D30A827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DB12B-7A5B-48E7-B7E5-0B9D3D2F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9276E-6BB5-45B2-8ECB-27CD3F60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B52C3-B4F8-4C0B-A79F-9CF8590D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A0899-5A4A-4C15-B661-D17D3D6B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E9344-A9EC-4B95-A54F-DD517076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C6378-BAF2-451F-9850-EF2EA9F4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BE82-FF8A-43C3-BB64-AF013A703B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3C9D-BFFE-45BD-BF39-121A9C9A95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Build Your Own PC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ril 200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22:17:58Z</dcterms:created>
  <dc:creator>pc</dc:creator>
  <dc:description/>
  <dc:language>en-US</dc:language>
  <cp:lastModifiedBy>pc</cp:lastModifiedBy>
  <dcterms:modified xsi:type="dcterms:W3CDTF">2008-04-16T22:19:56Z</dcterms:modified>
  <cp:revision>1</cp:revision>
  <dc:subject/>
  <dc:title>Build Your Own PC</dc:title>
</cp:coreProperties>
</file>